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27E-38CA-4C92-AF87-9551947F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161-4AEB-47F3-AE3F-48979FB1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AF6-F4B2-45B4-B11B-199A2994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8D1-F633-4631-8F36-D9723031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6E6E-F89C-4906-A47C-DD3AB9ED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40C8-A6EF-4313-82D0-7360467A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1A43-298F-4316-9581-45544DA5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9711-97DE-4A04-91EB-F8C24B22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A6C7-4559-4524-B66F-91C07D28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9FA8-117A-424A-BB58-F3F9ADFF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356D-73DF-42B2-8C06-49908548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990-D5A8-40AE-AB4F-D0359C55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EAF0-25C0-4236-99B1-B8664CF8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8B23-0F79-4FA0-BABB-F56C0635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FF4B-0D31-4988-B588-0C75C4D7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3C3B-9B04-4922-8B15-40F987A6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FDDF-560E-417E-9C46-28AE75C6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B5D-FEAE-42E4-8898-8127740D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419-E422-43BF-A031-4934BDE5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77E-CF60-4F32-9EBC-7E62E943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D1D-EFA3-4B9B-A571-56467BB1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C9B-CDB5-4362-BD78-D5663FDD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F02-C759-45C3-875D-8E4F803F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DDE-09B2-4D0B-AD9D-699EED0F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BD1E-4E3A-486A-8D38-CD3D41EA1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5546-C53A-4977-AD82-BA937B9C9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: The Molecule of Here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The process continues until the entire molecule had been unzipped and replic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: Each new strand formed is a complement of one of the original, or parent strand. Which form 2 DNA molecules identical to the original. (semiconservative 1 parent strand 1 new stra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A achieves its control by producing prote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tructures &amp; activities depend on proteins (enzym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A is a very long molec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A </a:t>
            </a:r>
            <a:r>
              <a:rPr b="0" lang="en-US" sz="3200" spc="-1" strike="noStrike">
                <a:solidFill>
                  <a:srgbClr val="000000"/>
                </a:solidFill>
                <a:latin typeface="MathScience"/>
                <a:ea typeface="MathScience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cleic acid</a:t>
            </a:r>
            <a:r>
              <a:rPr b="0" lang="en-US" sz="3200" spc="-1" strike="noStrike">
                <a:solidFill>
                  <a:srgbClr val="000000"/>
                </a:solidFill>
                <a:latin typeface="MathScience"/>
                <a:ea typeface="MathScience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cleo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otides: sugar, phosphate, nitrogen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trogen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itrogen base is an organic ring structure that contains one or more atoms of nitr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NA there are four possible nitrogen b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son and Crick are credit with discovering the structure of D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chain of nucleotides, the sugar of one nucleotide is joined to the phosphate group of the next nucleotide by covalent bo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 chains of nucleotides in a DNA molecule are held together by weak hydrogen bonds between the b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 bases on the same rung are referred to as base pairs. They are complementary to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only bonds with T and G only bonds with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iring produces a long two stranded molecule similar to a ladd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des of the ladder are the sugar and phosphate. The rungs of the ladder are the nitrogen b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adder is twisted forming a double hel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ance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he genetic code or blue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re closely related the organism, the more alike the order of nucleotides in their DNA will 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DNA to determine evolutionary relation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cation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A is copied in a process called replication. Without replicating, cells would only have half of the genetic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strands on the DNA molecule each serve as a pattern to make a new DNA molec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Enzymes break hydrogen bonds between the bases. So the DNA begins to unz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s it continues to unzip free nucleotides from the surroundings in the nucleus bond to the single  strands by base pai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nother enzyme bonds these new nucleotides to the ch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8:42:47Z</dcterms:created>
  <dc:creator>pchs</dc:creator>
  <dc:description/>
  <dc:language>en-US</dc:language>
  <cp:lastModifiedBy>pchs</cp:lastModifiedBy>
  <dcterms:modified xsi:type="dcterms:W3CDTF">2002-01-28T13:49:33Z</dcterms:modified>
  <cp:revision>2</cp:revision>
  <dc:subject/>
  <dc:title>DNA: The Molecule of Heredity</dc:title>
</cp:coreProperties>
</file>